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3CCC-8061-4D6E-8648-42824D0D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BD1-670E-452B-A894-DFCDAFB0B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AF4F-32E2-4A66-B22B-0210F250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E17B-7DB6-41AF-BFAC-5415E110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502B-9D76-4DFA-8555-B340E6204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A25D-49CF-46E3-A819-25FF55C3D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 performance across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n total in all subgroups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p increases greater that total in 3/5 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ed by 3 in CA and 8 in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F204-5BE8-477B-AE83-4440F60B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.4% of the District’s 1513 graduating seniors in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E3BD-23AB-4FEA-B730-0BE429E6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4343040"/>
            <a:ext cx="5489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B2E-AD05-479D-B709-875893CE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DBA-5C1F-4F43-BC62-C428C908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474-21A9-4C8D-B75D-E00BD305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BF6-C896-4E1A-BC2B-B6F4839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09D-A6E3-4261-95E0-983E4A3B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380-444B-417A-A48F-D8C892D6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CC4-0FCA-48D1-8F8D-89E4137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4C1-537C-43B2-96BF-A79D3243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2D1-C2E3-4AE1-850F-AD81EA4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773-A6EC-417A-B762-ED613AA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E9F-4F01-4EF4-915C-11D09E2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15F-0375-451E-B76C-17A5D786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DFDA-ABE8-487C-BC76-02DAF4B2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Data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YP Goa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eet in 12/16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lose the gaps in those groups who do not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G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Big Picture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attend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10 abs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ion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62120" y="54936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2009-2010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Board of Educati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2280" y="2286000"/>
            <a:ext cx="9677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dentify and close learn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Align research-based strategies to improve teaching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mplement and monitor a rigorous curriculum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vance the achievement of all lear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Use PL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60280" y="0"/>
          <a:ext cx="8623440" cy="857160"/>
        </p:xfrm>
        <a:graphic>
          <a:graphicData uri="http://schemas.openxmlformats.org/drawingml/2006/table">
            <a:tbl>
              <a:tblPr/>
              <a:tblGrid>
                <a:gridCol w="5486400"/>
                <a:gridCol w="3137040"/>
              </a:tblGrid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Department of Elementary and Secondary Education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S HOWELL R-III (092088 )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LIMINARY Adequate Yearly Progress*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756400" y="0"/>
          <a:ext cx="3117600" cy="838080"/>
        </p:xfrm>
        <a:graphic>
          <a:graphicData uri="http://schemas.openxmlformats.org/drawingml/2006/table">
            <a:tbl>
              <a:tblPr/>
              <a:tblGrid>
                <a:gridCol w="1461960"/>
                <a:gridCol w="876240"/>
                <a:gridCol w="779400"/>
              </a:tblGrid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s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Ar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d Action:   District Improvement Level 3, Corrective Action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8600" y="847800"/>
          <a:ext cx="8667720" cy="88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47800"/>
                    <a:ext cx="8667720" cy="88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9800" y="343080"/>
          <a:ext cx="8070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3080"/>
                    <a:ext cx="8070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YP—Adequate Yearly Progress</a:t>
            </a: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ederal--NC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914400"/>
            <a:ext cx="80769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008 GOAL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benchmark in 12/16 MAP sub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Additional Indicators—graduation rate and attendan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LEP—CA and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et FRL—CA and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4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28600" y="25146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2590920"/>
          <a:ext cx="762012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990720"/>
                <a:gridCol w="114300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=Met    NM=Not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n/Pacific Isla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/Reduced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ance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366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3520" y="-763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82"/>
                </a:solidFill>
                <a:latin typeface="Tahoma"/>
              </a:rPr>
              <a:t>ACHIEVEMENT GAP CURREN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8600" y="6324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LACK=Met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RED=Not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143000"/>
          <a:ext cx="878868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788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6"/>
          <p:cNvSpPr/>
          <p:nvPr/>
        </p:nvSpPr>
        <p:spPr>
          <a:xfrm>
            <a:off x="4876920" y="1066680"/>
            <a:ext cx="0" cy="5181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1440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FHSD ACT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861840"/>
          <a:ext cx="845820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61840"/>
                    <a:ext cx="845820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715000" y="6019920"/>
            <a:ext cx="2971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219320"/>
          <a:ext cx="81630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1630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4"/>
          <p:cNvSpPr/>
          <p:nvPr/>
        </p:nvSpPr>
        <p:spPr>
          <a:xfrm>
            <a:off x="1219320" y="21276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57200" y="5364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182"/>
                </a:solidFill>
                <a:latin typeface="Tahoma"/>
              </a:rPr>
              <a:t>ACT Composite Scor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tional Measur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D Goal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91320" y="5943600"/>
            <a:ext cx="31240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RE                     23.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ESS THAN CORE 20.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2009-10 CSIP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PR Go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 Meet 14/14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8-09 GOAL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09-10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(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H1; 2 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H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2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6.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ge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75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Ed Plac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2.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d 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3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H1N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gro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7.5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met in alt metho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54:24Z</dcterms:created>
  <dc:creator>mthendricks-harris</dc:creator>
  <dc:description/>
  <dc:language>en-US</dc:language>
  <cp:lastModifiedBy>teacher</cp:lastModifiedBy>
  <dcterms:modified xsi:type="dcterms:W3CDTF">2009-11-03T03:26:43Z</dcterms:modified>
  <cp:revision>2</cp:revision>
  <dc:subject/>
  <dc:title>Selected Data Slides</dc:title>
</cp:coreProperties>
</file>